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5ED-19E1-4454-9C31-3F285243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AD4-BA7A-4924-A3CF-ADC16D92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327-CBBB-4FEE-8DB7-01E67B0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C48-F381-48FF-9AE7-B6DE4342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F81-5107-444A-A698-922302D3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19B-D846-4E0B-A2A2-1C62C62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508-33F5-4D05-8096-5553F11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05C-D048-40CE-AF24-EEB6F764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0D9-BF0E-4727-822A-290001E8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CBF-9C96-4635-AC45-0D556FE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AC6-14BA-4D1F-B117-8D96BBC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452-E807-461E-A10D-C07E815D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BAD-16AE-4B13-BC9D-E2A305C9A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расимова М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бус солне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емейство: кар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должительность жизни: 3-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Размер: 3-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Температура воды: 18-22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227640" y="5013360"/>
            <a:ext cx="2122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Телескоп 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емейство: кар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должительность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мер: до 2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мпература воды: 15-30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размно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29811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а Марковская «Уголок природы в детском са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I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лад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Золотая рыбка, кар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редня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 (кроме вуалехвоста и телеско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тар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-вуалехвост, телескоп, мон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Подготовительн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тепловодные рыбы (живородящие, лабиринтов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ладше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Дети должны знать рыб, живущих в уголке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нать самые характерные особенности внешне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нать основную пищу уголка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В средне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Закреплять названия тех рыб, с которыми знакомили детей в младшей группе, отмечая существенные их признаки (тело рыб овальной формы, покрыто блестящей чешуёй; на спине, животе и хвосте расположены плавники; рыбы бывают большие и маленькие, разные по окраске; плавая, они то поднимаются вверх, то опускаются вниз, на дно аквари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Продолжать воспитывать интерес и любовь к рыбкам, бережное отношение к ним, желание наблюдать и ухаж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В старше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Педагог учит устанавливать сходство во внешнем виде и повадках ры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Необходимо углублять интерес к рыбам, желание длительно наблюдать и ухаживать за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В подготовительно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30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глублять знания детей о внешнем виде и повадках рыб (у рыб глаза без век, в аквариуме рыбы находятся в разных слоях воды, одни содержатся стайкой, другие – поодин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едагог углубляет знания о размножении (одни рыбы рождают живых мальков, другие ухаживают за икрой, строят для этого гнёз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Дети должны знать, что рыбы нуждаются в создании разных услови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Дошкольники учатся устанавливать общие понятия: холодноводные и теплолюбивые 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уп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ейство: Пецили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должительность жизни: 3-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змер: 3-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мпература воды: 18-30С (лучше 23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0000" y="4533840"/>
            <a:ext cx="3097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Меченос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емейство: Пецили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должительность жиз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змер: 6-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пература воды: 22-26С (хорошо переносит понижение до 15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вместимость: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6360" y="5106960"/>
            <a:ext cx="24969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ик золотис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емейство: Панц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одолжительность жизни: 2-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мер: 6-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емпература воды: 23-28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4513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7:36:36Z</dcterms:created>
  <dc:creator>User</dc:creator>
  <dc:description/>
  <dc:language>en-US</dc:language>
  <cp:lastModifiedBy>ПМНО</cp:lastModifiedBy>
  <dcterms:modified xsi:type="dcterms:W3CDTF">2010-05-28T09:01:20Z</dcterms:modified>
  <cp:revision>13</cp:revision>
  <dc:subject/>
  <dc:title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) </dc:title>
</cp:coreProperties>
</file>